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3.png" ContentType="image/png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2330-4BFC-484B-A905-46B51D185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7A9-E33A-46C5-8344-041534518C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CCAE-12F6-4DFA-82BA-615DB855CE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85E5-594C-43A1-B2C4-0037B975EC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88D2-0A6B-4106-8964-A4107C643C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D7B0-C067-4BD3-8C65-5A7EF74EC7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60A-53C5-465A-9988-06638F9E64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00DE-B83E-44CF-8BFB-C1908FE468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2FB1-88A0-4EC4-B9BF-1171DF7495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7C32-7F95-4891-AD89-29DCCC7A92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1598-E6E1-4E44-9A52-7F72020F04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9FA2-A6CB-49F2-B0F6-CA7FDEA797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839A-912A-4F95-BF42-EB02EE42B5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446D-5D22-4C7D-906F-EBADD66099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DE22-04F2-482A-B35E-FF5E6A33B2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F5C4-A570-4BBF-BCE7-0C3DEC8C36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6AFC-D501-460F-9181-DE2111EB11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E2A-8167-4CE8-83F7-0B9D42B0F1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1B42-DA0B-4371-8FD0-BF2A146A1C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1FA0-C80F-4E5E-9624-D5685EDC1B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0379-A4C1-4AE1-9426-013DCF75BF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73F8-14C5-4755-BB9B-001070A6E5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B04-4893-4865-ADBE-8EC791BF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FB2-E723-4643-A4C2-6127E3B3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604-714C-4E57-96D6-262623A8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06E-7FDA-41CB-AF01-9C92B28D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2724-B738-4249-85F8-28BF438B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3892-7376-41C7-9361-76D6D312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170B-3C05-498B-B93F-DE0C2CC7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912F-749C-48BB-B678-9706502F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9DE9-FA93-473B-807E-602AE3F7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199B-544E-4E7C-8633-898EB351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96DE-690E-4375-AE45-3D16C41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72C-214A-4F21-AB32-F1D77AF9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CEED-085C-46FA-81EF-AC941F6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3F71-ED66-4956-A052-36A355F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7162-D632-4FF2-8ED5-8A9F815E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2F14-F711-4581-BB19-5A30AC89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A1CE-A46E-41BB-8E59-BC1633D3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38DDF-898F-4832-82FB-1A780D6A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EA8E-2CC3-4A53-9A66-50EE6930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6253-586E-4DEF-8581-E48C1EDF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1CEC-4F99-4BFB-B769-9A25EA07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ABAA-C385-4D92-B59F-3BCA8591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53F-2D9F-46A6-8E30-925554ED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7004-97AB-4302-90F2-1251FE42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C0F3-8B79-4CB5-9301-5334863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4235-7B97-4361-ABE8-A6F724A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21AF7-D513-4122-A89B-69AD1F0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43BB-4D85-4F56-8F92-10D8C7FA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4B44-F812-4EE6-8FA3-F0DBFCA0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2232-4AD4-411F-8C12-529B20D0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5DE6-0482-4BF0-AB0D-D1C39EFF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61DF-DE89-4FA7-AB80-2A77C4A3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2ECC-22E7-4DBD-8B09-960BB001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72B-33BB-40B7-83F7-604AE08C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F2F5-96C4-4FB3-80A6-3FD8C1E0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1AE75-C432-47DE-B2A5-27C75259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081B-980A-44E4-B1C4-54BA83F8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A966-A180-49AE-A5A8-D8557EA3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3712-692A-4648-B68D-BC1D78FF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CA2E-E45B-4892-AB87-2BC2C618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3255-E31A-4EE7-923A-8F50FD26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8B2D-8356-4DE9-9A82-1DD3373A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7BBE-343E-4AAF-B583-1896C7DB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641A-A181-41A4-8B0B-ABAD1814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4DB-86CC-478D-A21A-9E83259C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1D401-09FC-4944-9DB7-1BBD8C64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A9BB-3217-4037-BBF9-D4825383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9A36E-B87E-4349-A6D7-EB77508B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4733-4E3E-403F-B145-2444359F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768E-5E41-4BC1-B4BD-F08CB111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AE7AC-116E-4341-A23F-300390A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0507-1E9C-4EF8-9C72-A4A8044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0F45A-C2E9-440E-9CE1-DBE64D9A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4160-4BF6-4C86-B28D-E18F0B53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983F-8480-4FD3-B453-FC0EEF8B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DA8-358F-4AD7-86BF-FD39F6AF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076E6-1D7C-45E9-818A-D0B31CB5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B69EC-E43F-4BAB-9E1A-48CC49B0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9DF8-167A-46BE-AE6D-DEC734C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C0FF-84B7-41A6-93E4-7BBDE875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FA378-6CCE-42C0-9BF5-BA68C14F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7FF3F-6535-4212-89DC-55277E3D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E8D54-3013-48B8-B633-B2F2340E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62B9-182C-49CB-A46F-A76A159F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B0EB-038C-4F9E-98D3-6C29D7C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5064-49B1-4431-948B-5678262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19D-1128-40BF-A025-9F296A05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03DCA-FDB5-4E0B-98B2-27FD307E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655CB-9CDB-45FC-8FE5-50415468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ECD9E-FAC2-4A74-A03C-25E9B1B3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5C682-A378-47B8-93DE-1B4DE005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4C957-13A7-4AAC-A978-401194E5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D479F-2FEE-4535-BB5B-D9959BD4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BB6A9-EA39-4F4E-B0D7-BFA0F55D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B2337-372D-4562-AD7C-3E49678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24C8D-478C-4027-91F0-6FEFC6D9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27EF3-260A-4269-BF83-1C380915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FE6-B789-4466-A931-8911901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5B60-02CB-4A60-8C44-99B2657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2654C-B06B-4916-8053-4BA2EA3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1FFE8-1A97-47DD-91DF-5AAE51C4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AE87D-76CD-4A1C-8358-62359D1E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1C47-124A-46B0-828E-6CF5A9A7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646-309A-4263-A1F8-186387E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7BF0-7C98-494A-9794-7D9E0BFEFFD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499C-5046-4644-9EE6-3D685664F49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5241-6D13-47B6-9C3E-B3B9E8ACC28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B23-FFA0-4857-8170-F45A1B78A23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007-6307-4A54-A40F-46F60839D1E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3C45-41AB-4907-9752-68EA1D091E3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396D-4B75-49E5-8CCE-CD6B68F112D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polycom.com/usa/en/solutions/industry_solutions/education/searchable_database.html" TargetMode="External"/><Relationship Id="rId3" Type="http://schemas.openxmlformats.org/officeDocument/2006/relationships/hyperlink" Target="http://www.cilc.org/c/education/content_provider_programs.aspx" TargetMode="External"/><Relationship Id="rId4" Type="http://schemas.openxmlformats.org/officeDocument/2006/relationships/hyperlink" Target="http://www.twice.cc/fieldtrips.html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cilc.org/search/content-provider-program.aspx?id=957" TargetMode="External"/><Relationship Id="rId3" Type="http://schemas.openxmlformats.org/officeDocument/2006/relationships/hyperlink" Target="http://www.cilc.org/search/content-provider-program.aspx?id=106" TargetMode="External"/><Relationship Id="rId4" Type="http://schemas.openxmlformats.org/officeDocument/2006/relationships/hyperlink" Target="http://www.cilc.org/search/content-provider-program.aspx?id=1450" TargetMode="External"/><Relationship Id="rId5" Type="http://schemas.openxmlformats.org/officeDocument/2006/relationships/hyperlink" Target="http://www.cilc.org/search/content-provider-program.aspx?id=472" TargetMode="External"/><Relationship Id="rId6" Type="http://schemas.openxmlformats.org/officeDocument/2006/relationships/hyperlink" Target="http://www.cilc.org/search/content-provider-program.aspx?id=613" TargetMode="External"/><Relationship Id="rId7" Type="http://schemas.openxmlformats.org/officeDocument/2006/relationships/hyperlink" Target="http://www.cilc.org/search/content-provider-program.aspx?id=519" TargetMode="External"/><Relationship Id="rId8" Type="http://schemas.openxmlformats.org/officeDocument/2006/relationships/hyperlink" Target="http://www.cilc.org/search/content-provider-program.aspx?id=1810" TargetMode="External"/><Relationship Id="rId9" Type="http://schemas.openxmlformats.org/officeDocument/2006/relationships/hyperlink" Target="http://www.cilc.org/search/content-provider-program.aspx?id=1635" TargetMode="External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cilc.org/search/content-provider-program.aspx?id=1958" TargetMode="External"/><Relationship Id="rId3" Type="http://schemas.openxmlformats.org/officeDocument/2006/relationships/hyperlink" Target="http://www3.cet.edu/clc/main.html" TargetMode="External"/><Relationship Id="rId4" Type="http://schemas.openxmlformats.org/officeDocument/2006/relationships/hyperlink" Target="http://www.cilc.org/search/content-provider-program.aspx?id=1709" TargetMode="External"/><Relationship Id="rId5" Type="http://schemas.openxmlformats.org/officeDocument/2006/relationships/hyperlink" Target="http://www.nasm.si.edu/education/classroom_videoconf.cfm" TargetMode="External"/><Relationship Id="rId6" Type="http://schemas.openxmlformats.org/officeDocument/2006/relationships/hyperlink" Target="http://www.carnegiemnh.org/doe/programs/DL.htm" TargetMode="External"/><Relationship Id="rId7" Type="http://schemas.openxmlformats.org/officeDocument/2006/relationships/hyperlink" Target="http://dln.nasa.gov/dln/" TargetMode="External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education.baseballhalloffame.org/experience/videoconferences.html" TargetMode="External"/><Relationship Id="rId3" Type="http://schemas.openxmlformats.org/officeDocument/2006/relationships/hyperlink" Target="http://www.profootballhof.com/hall/distancelearning.aspx" TargetMode="External"/><Relationship Id="rId4" Type="http://schemas.openxmlformats.org/officeDocument/2006/relationships/hyperlink" Target="http://americanart.si.edu/education/" TargetMode="External"/><Relationship Id="rId5" Type="http://schemas.openxmlformats.org/officeDocument/2006/relationships/hyperlink" Target="http://www.mountvernon.org/learn/teachers_students/index.cfm/pid/1161/" TargetMode="External"/><Relationship Id="rId6" Type="http://schemas.openxmlformats.org/officeDocument/2006/relationships/hyperlink" Target="http://www.vanderbilt.edu/virtualschool/catalog.htm" TargetMode="External"/><Relationship Id="rId7" Type="http://schemas.openxmlformats.org/officeDocument/2006/relationships/hyperlink" Target="http://projects.twice.cc/" TargetMode="External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cartermuseum.org/teaching/distance-learning" TargetMode="External"/><Relationship Id="rId3" Type="http://schemas.openxmlformats.org/officeDocument/2006/relationships/hyperlink" Target="http://www.cilc.org/search/content-provider-program.aspx?id=1818" TargetMode="Externa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9080" cy="159732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7. If working with other schools, be sure to include a project timelin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f they are sharing they need time to prepare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8. Before conference day, do a test connection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 sure to schedule it with all participant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9. On conference day, set up the equipment EARLY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n agenda for start and stop time should be established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When working collaboratively, decide who is responsible for each par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0. Be prepared for the wors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ve copies of all materials in case of equipment failure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ve phone numbers available for all participant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efore the conference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t up an easy point to point conference with another class and have students practice introducing themselves and speaking loudly &amp; clearly into the micropho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students come up with questions and email them to the provi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mind students of the sensitivity of the microphone and of things they should and shouldn’t sa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7696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uring the conferenc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ve students seated and ready at least 10 minutes before the start tim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f a seating chart was not given to the provider, have nametags placed in visible location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ecide upon a procedure for asking questions with the provider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te your microphone for the class until they need to speak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76964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the conference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an assignment related to the conference information ready for the stud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vide the students with a brief evaluation of their experienc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view the evaluations and reflect upon the conference’s impact on learning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pectacular Cont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significant interactiv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blends with the curricul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pectacular Content Provid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easy access to instructional aid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have subject matter experts on-han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want feedback and provide it for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have a passion for what they d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nderstanding of state requirem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729640" cy="1407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22600"/>
            <a:ext cx="3657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Searchable Databas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4953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Polyco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Center for Interactive Learning and Collaboration (CILC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Two Way Interactive Connection in Education (TWICE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2" descr="C:\Users\Mary Wallace\AppData\Local\Microsoft\Windows\Temporary Internet Files\Content.IE5\XX8ZXM1I\MCj04316430000[1].png"/>
          <p:cNvPicPr/>
          <p:nvPr/>
        </p:nvPicPr>
        <p:blipFill>
          <a:blip r:embed="rId5"/>
          <a:stretch/>
        </p:blipFill>
        <p:spPr>
          <a:xfrm>
            <a:off x="1219320" y="358128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1000" autoRev="1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80880" y="2057400"/>
            <a:ext cx="28958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ath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504960" y="1722240"/>
            <a:ext cx="5181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Math Connections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Ani-Math K-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Mozart Math 2-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Math &amp; Music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Batter Up 4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Math Connections in Art (Gridding)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8"/>
              </a:rPr>
              <a:t>Mathematica-Math in Society 6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9"/>
              </a:rPr>
              <a:t>What Good is a Parabola Anyway? 8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3" descr="C:\Users\Mary Wallace\AppData\Local\Microsoft\Windows\Temporary Internet Files\Content.IE5\T98HM1K2\MCj04361510000[1].wmf"/>
          <p:cNvPicPr/>
          <p:nvPr/>
        </p:nvPicPr>
        <p:blipFill>
          <a:blip r:embed="rId10"/>
          <a:stretch/>
        </p:blipFill>
        <p:spPr>
          <a:xfrm>
            <a:off x="914400" y="3276720"/>
            <a:ext cx="1857240" cy="164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6840" y="1722240"/>
            <a:ext cx="30481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cience: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657600" y="1722600"/>
            <a:ext cx="5029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Passport to Planet Earth K-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Challenger Learning Cen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Can a Shoebox Fly? FREE 4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National Air &amp; Space Muse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Smithsonian Environmental Research Cen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COSI (Center of Science &amp; Industr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Carnegie Museum of Natural History K-12 FRE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NASA FRE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3" descr="C:\Users\Mary Wallace\AppData\Local\Microsoft\Windows\Temporary Internet Files\Content.IE5\XX8ZXM1I\MCj03985510000[1].wmf"/>
          <p:cNvPicPr/>
          <p:nvPr/>
        </p:nvPicPr>
        <p:blipFill>
          <a:blip r:embed="rId8"/>
          <a:stretch/>
        </p:blipFill>
        <p:spPr>
          <a:xfrm>
            <a:off x="1295280" y="2895480"/>
            <a:ext cx="1362240" cy="1863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22600"/>
            <a:ext cx="3200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entury Gothic"/>
              </a:rPr>
              <a:t>History: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5840" y="1722600"/>
            <a:ext cx="4800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National Baseball Hall of Fa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Football Hall of Fa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A House Divided FREE 5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Mt. Vernon Estate &amp; Garde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Virtual School @ Vanderbilt Univers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History Quest &amp; Mystery Qu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3" descr="C:\Users\Mary Wallace\AppData\Local\Microsoft\Windows\Temporary Internet Files\Content.IE5\Y9Y83ON7\MCj01498480000[1].wmf"/>
          <p:cNvPicPr/>
          <p:nvPr/>
        </p:nvPicPr>
        <p:blipFill>
          <a:blip r:embed="rId8"/>
          <a:stretch/>
        </p:blipFill>
        <p:spPr>
          <a:xfrm>
            <a:off x="685800" y="2590920"/>
            <a:ext cx="2629080" cy="1752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6840" y="1600200"/>
            <a:ext cx="33526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Language Arts: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14800" y="16761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Metaphorically Speaking 6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Flying Fingers (Adora Svitak) 4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rose &amp; Poetry at the Primary Level 2-5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ieces of Other Places (The Story Peddlers) 3-6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dgar Allen Poe 8-12 (Center for Puppetry Art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Users\Mary Wallace\AppData\Local\Microsoft\Windows\Temporary Internet Files\Content.IE5\9RXCMCMU\MCj04326650000[1].png"/>
          <p:cNvPicPr/>
          <p:nvPr/>
        </p:nvPicPr>
        <p:blipFill>
          <a:blip r:embed="rId4"/>
          <a:stretch/>
        </p:blipFill>
        <p:spPr>
          <a:xfrm>
            <a:off x="1219320" y="2514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885840" y="17226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t’s a communication technology that integrates video &amp; voice to connect remote users with each other as if they were in the same roo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rs see each other in real time allowing for natural conversat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C:\Users\Mary Wallace\AppData\Local\Microsoft\Windows\Temporary Internet Files\Content.IE5\Y9Y83ON7\MCj02374910000[1].wmf"/>
          <p:cNvPicPr/>
          <p:nvPr/>
        </p:nvPicPr>
        <p:blipFill>
          <a:blip r:embed="rId2"/>
          <a:stretch/>
        </p:blipFill>
        <p:spPr>
          <a:xfrm>
            <a:off x="484200" y="2133720"/>
            <a:ext cx="313992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82520" y="262080"/>
            <a:ext cx="8510760" cy="1407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reality today is that we are all interdependent and have to co-exist on this small planet. Therefore, the only sensible and intelligent way of resolving differences and clashes of interests, whether between individuals or nations, is through dialogue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 The Dalai Lam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Wise Ge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Wikiped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ooperating School Distric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enter for Interactive Learning and Collabo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labor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haring formal/informal cha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irtual field trip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porting News (ex. NASA space flight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uest Experts/Visito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m Learning and Teach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 Competi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ultural Exchan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aves ti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aves mone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llows for visits to places that would be impossibl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rings students from remote or isolated locations together with other studen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4" descr="C:\Users\Mary Wallace\AppData\Local\Microsoft\Windows\Temporary Internet Files\Content.IE5\9RXCMCMU\MCj02321100000[1].wmf"/>
          <p:cNvPicPr/>
          <p:nvPr/>
        </p:nvPicPr>
        <p:blipFill>
          <a:blip r:embed="rId2"/>
          <a:stretch/>
        </p:blipFill>
        <p:spPr>
          <a:xfrm>
            <a:off x="1523880" y="2590920"/>
            <a:ext cx="1981440" cy="2611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ddresses different learning styles/multiple intelligence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tivating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vides practice of presentation &amp; communication skil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nhances research &amp; technology skill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Picture 4" descr="C:\Users\Mary Wallace\AppData\Local\Microsoft\Windows\Temporary Internet Files\Content.IE5\9RXCMCMU\MCj02321100000[1].wmf"/>
          <p:cNvPicPr/>
          <p:nvPr/>
        </p:nvPicPr>
        <p:blipFill>
          <a:blip r:embed="rId2"/>
          <a:stretch/>
        </p:blipFill>
        <p:spPr>
          <a:xfrm>
            <a:off x="1371600" y="2362320"/>
            <a:ext cx="2355840" cy="31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22600"/>
            <a:ext cx="40384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nhanced program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ccess to exper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ew dimension of discourse in the classroo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ange my life” kind of experience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opportunity to evolve into the role of “content provider.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Content Placeholder 6" descr="video conf. &amp; girls wkend 001.JPG"/>
          <p:cNvPicPr/>
          <p:nvPr/>
        </p:nvPicPr>
        <p:blipFill>
          <a:blip r:embed="rId2"/>
          <a:stretch/>
        </p:blipFill>
        <p:spPr>
          <a:xfrm>
            <a:off x="4838760" y="26146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657240" y="17524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deo input: video camera or webca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deo output: computer monitor, television, or projecto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udio input: micropho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udio output: speak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ata Transfer: LAN or Interne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2" descr="C:\Users\Mary Wallace\AppData\Local\Microsoft\Windows\Temporary Internet Files\Content.IE5\XX8ZXM1I\MCj03577670000[1].wmf"/>
          <p:cNvPicPr/>
          <p:nvPr/>
        </p:nvPicPr>
        <p:blipFill>
          <a:blip r:embed="rId2"/>
          <a:stretch/>
        </p:blipFill>
        <p:spPr>
          <a:xfrm>
            <a:off x="533520" y="1447920"/>
            <a:ext cx="1131840" cy="160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C:\Users\Mary Wallace\AppData\Local\Microsoft\Windows\Temporary Internet Files\Content.IE5\Y9Y83ON7\MCj03121320000[1].wmf"/>
          <p:cNvPicPr/>
          <p:nvPr/>
        </p:nvPicPr>
        <p:blipFill>
          <a:blip r:embed="rId3"/>
          <a:stretch/>
        </p:blipFill>
        <p:spPr>
          <a:xfrm>
            <a:off x="2209680" y="2514600"/>
            <a:ext cx="1086120" cy="1523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Users\Mary Wallace\AppData\Local\Microsoft\Windows\Temporary Internet Files\Content.IE5\XX8ZXM1I\MCj04123380000[1].wmf"/>
          <p:cNvPicPr/>
          <p:nvPr/>
        </p:nvPicPr>
        <p:blipFill>
          <a:blip r:embed="rId4"/>
          <a:stretch/>
        </p:blipFill>
        <p:spPr>
          <a:xfrm>
            <a:off x="1600200" y="4800600"/>
            <a:ext cx="1825560" cy="1352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Users\Mary Wallace\AppData\Local\Microsoft\Windows\Temporary Internet Files\Content.IE5\9RXCMCMU\MCj04316120000[1].png"/>
          <p:cNvPicPr/>
          <p:nvPr/>
        </p:nvPicPr>
        <p:blipFill>
          <a:blip r:embed="rId5"/>
          <a:stretch/>
        </p:blipFill>
        <p:spPr>
          <a:xfrm>
            <a:off x="228600" y="3276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67820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Before starting ask yourself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ll VC really benefit my project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uld the project be done using another medium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m I using VC just because it’s really cool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Think of a project that would benef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Find partners to participa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pending on the content you may want to invite      additional classrooms or an expert provider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72392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. Share information with the provider via the web or email – get as much contact information as possible!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5. Set a date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Know the dates you wan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ork well in advance (3 to 4 months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6. Find out if you must schedule through a bridge or if the connection is point to point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Bridges must be used when handling mixed protocols (H.320 ISDN &amp; H.323 IP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lti Point Control Units are bridges that can connect calls from several sourc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22:49:09Z</dcterms:created>
  <dc:creator>Mary Wallace</dc:creator>
  <dc:description/>
  <dc:language>en-US</dc:language>
  <cp:lastModifiedBy>Mary Wallace</cp:lastModifiedBy>
  <dcterms:modified xsi:type="dcterms:W3CDTF">2009-07-28T01:07:28Z</dcterms:modified>
  <cp:revision>24</cp:revision>
  <dc:subject/>
  <dc:title>Slide 1</dc:title>
</cp:coreProperties>
</file>